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963-EF66-4C7A-8581-89D86DE7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97E-C035-400F-A261-9C894F5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F4C-859A-4A09-BF7D-36BEC58C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984-4D56-4652-8BE3-2CDC35F8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EB8-2AC9-4161-A5CD-7A92CEF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F7B-CFE4-4E38-AFC9-1710D2A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5CB-E29C-404E-AA00-2DB3751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B98-7314-4FB4-909E-33065CB9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612-64F6-4288-86B3-A64F8F0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900-CAAB-48C9-83C0-9D8FEE2B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D78-DCB1-40C1-B6A6-2CB8E055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020-DFC1-4BFC-8015-DB7C2AE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C10-0B1F-4618-97CD-7C9D23BCC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b136a7"/>
                </a:solidFill>
                <a:latin typeface="Arial"/>
              </a:rPr>
              <a:t>Vo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3da2"/>
                </a:solidFill>
                <a:latin typeface="Arial"/>
              </a:rPr>
              <a:t>Voice over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0080" y="4784760"/>
            <a:ext cx="33530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VoIP, or Voice over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48fe6"/>
                </a:solidFill>
                <a:latin typeface="Abadi MT Condensed Light"/>
              </a:rPr>
              <a:t>   </a:t>
            </a:r>
            <a:r>
              <a:rPr b="0" lang="en-GB" sz="2800" spc="-1" strike="noStrike">
                <a:solidFill>
                  <a:srgbClr val="048fe6"/>
                </a:solidFill>
                <a:latin typeface="Abadi MT Condensed Light"/>
              </a:rPr>
              <a:t>A method for taking analog audio signals, and turn them into digital data that can be transmitted over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4447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badi MT Condensed Light"/>
              </a:rPr>
              <a:t>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1b573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b573"/>
                </a:solidFill>
                <a:latin typeface="Abadi MT Condensed Light"/>
              </a:rPr>
              <a:t>VoIP can turn a standard Internet connection into a way to place free phone ca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1b573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b573"/>
                </a:solidFill>
                <a:latin typeface="Abadi MT Condensed Light"/>
              </a:rPr>
              <a:t>By using some of the free VoIP software that is available to make Internet phone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1b573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1b573"/>
                </a:solidFill>
                <a:latin typeface="Abadi MT Condensed Light"/>
              </a:rPr>
              <a:t>Bypassing the phone company (and its charges) entir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badi MT Condensed Light"/>
              </a:rPr>
              <a:t>   “</a:t>
            </a:r>
            <a:r>
              <a:rPr b="0" i="1" lang="en-GB" sz="2800" spc="-1" strike="noStrike">
                <a:solidFill>
                  <a:srgbClr val="000000"/>
                </a:solidFill>
                <a:latin typeface="Abadi MT Condensed Light"/>
              </a:rPr>
              <a:t>VoIP is a revolutionary technology that has the potential to completely rework the world's phone systems.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62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There are three different types of VoIP services in common use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1) </a:t>
            </a:r>
            <a:r>
              <a:rPr b="0" lang="en-GB" sz="2800" spc="-1" strike="noStrike">
                <a:solidFill>
                  <a:srgbClr val="bb62ae"/>
                </a:solidFill>
                <a:latin typeface="Abadi MT Condensed Light"/>
              </a:rPr>
              <a:t>ATA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 -- The simplest and most common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2) </a:t>
            </a:r>
            <a:r>
              <a:rPr b="0" lang="en-GB" sz="2800" spc="-1" strike="noStrike">
                <a:solidFill>
                  <a:srgbClr val="bb62ae"/>
                </a:solidFill>
                <a:latin typeface="Abadi MT Condensed Light"/>
              </a:rPr>
              <a:t>IP Phones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 -- Specialized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3) </a:t>
            </a:r>
            <a:r>
              <a:rPr b="0" lang="en-GB" sz="2800" spc="-1" strike="noStrike">
                <a:solidFill>
                  <a:srgbClr val="bb62ae"/>
                </a:solidFill>
                <a:latin typeface="Abadi MT Condensed Light"/>
              </a:rPr>
              <a:t>Computer-to-computer </a:t>
            </a: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-- This is certainly the easiest way to use Vo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9145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4da9"/>
                </a:solidFill>
                <a:latin typeface="Abadi MT Condensed Light"/>
              </a:rPr>
              <a:t>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Allows you to connect a standard phone to your computer or your Internet connection for use with Vo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An analog-to-digital conver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badi MT Condensed Light"/>
              </a:rPr>
              <a:t>Takes the analog signal from your traditional phone and converts it into digital data for transmission over the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19051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1b15"/>
                </a:solidFill>
                <a:latin typeface="Abadi MT Condensed Light"/>
              </a:rPr>
              <a:t>IP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Specialized phones look just like normal phones with a handset, cradle and butt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IP phones have an RJ-45 Ethernet conn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Connect directly to your router and have all the hardware and software necessary right onboard to handle the IP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ad20"/>
                </a:solidFill>
                <a:latin typeface="Abadi MT Condensed Light"/>
              </a:rPr>
              <a:t>Computer-to-computer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All you need is the software, a microphone, speakers, a sound card and an Internet connection, preferably a fast one like you would get through a cable or DSL mod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adi MT Condensed Light"/>
              </a:rPr>
              <a:t>Except for your normal monthly ISP fee, there is usually no charge for computer-to-computer calls, no matter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72cab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472cab"/>
                </a:solidFill>
                <a:latin typeface="Arial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254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3:11:43Z</dcterms:created>
  <dc:creator>Valeria Michelle  Fernández Garibay</dc:creator>
  <dc:description/>
  <dc:language>en-US</dc:language>
  <cp:lastModifiedBy>Valeria Michelle  Fernández Garibay</cp:lastModifiedBy>
  <dcterms:modified xsi:type="dcterms:W3CDTF">2011-03-10T04:00:13Z</dcterms:modified>
  <cp:revision>1</cp:revision>
  <dc:subject/>
  <dc:title>VoIP</dc:title>
</cp:coreProperties>
</file>